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1A77-57D9-4F3A-9FA4-A942560D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AD47-155E-40E1-B89A-69F50501C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815EE-F07F-44A3-B5CC-BACDA1CC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C70E9-AFE6-4570-A641-201700F4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BFD85-3056-4FEB-872F-9C3B6E8F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A635E-0288-4BF6-B4C1-93E4738C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25DDD-4BB5-4C02-9D72-0FFE4ECB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19BA2-EDE4-4CCC-AC5C-FEA0F9F0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ABAB1-FC66-45D8-A333-E2CF59D2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C2E19-AC56-4F36-BDB8-55A450E1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32BEA-29C9-4B21-98DC-E9433E7F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AE1A0-3BE2-41CD-9B57-93CE36F5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7E9D-2961-4847-9F79-0481FC4F7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1C80F-E9A9-4939-9D9F-FD69BD0B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28173-F202-47DE-8999-8726A359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986CE-20CA-42BE-B6FD-102363DD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BEDB5-BC22-4AEC-BC20-D19BADAA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2B2268-DCD7-423E-BC6B-73F7A82E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CA17C-98B9-4350-9E8F-8430BBF3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9C687-174D-44FC-A468-8327B4C8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883F9-4041-4F02-AF17-3C3FC98B4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A9B52-DAA9-4AB4-AB8A-47769D28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608BB-9D2E-4399-B8BB-C9D89408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8A86-44B9-46FE-98AB-8182B38A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DE9D3-513A-4B11-8C2E-69480AF05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F3B809-8161-4A1F-851C-B98280CC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953C0-5DB9-4693-AAEA-B72CE330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1386D-AC39-419A-9742-D7CC81F5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61F39-E742-429E-B934-0FE03665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AA8EA-9176-4948-A556-252A4CDE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688744-B4E8-445D-B572-4AE5D844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796AB-C7C1-4822-816D-238A0648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C61EB-AF05-4627-9B8B-A176E2B2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5D25A-C17D-462D-9381-366C1882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D1B8-10E9-496F-87FF-48B91959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A76E5-FD11-4AF3-A397-4FB08189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99F40-C24F-4D04-9E31-2E1CC43B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55D53-D768-4D6A-8415-370E80CD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78D57-C382-4285-8524-D64E73D5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B66DB-E838-420F-9A49-689F7BEA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45EB6-6EB0-4F4E-B481-35119A38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1722F5-CC04-428D-B0E3-7CA8B997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7FF5C-3211-4857-A69E-52FAC1DF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67A26-15DF-4E4C-A95C-F9E50CFB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0F9A1-7A35-4A64-81A1-CF908828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6F99-0580-4FC3-8B68-0CBF8C74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56DB52-910B-46C6-A02D-E26D6BFE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1B9AE7-A2ED-4C74-B120-68FFE3F3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EBB71F-52C0-46B5-9DE8-5A97E85A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F0395-0620-42E8-AAEC-DA59226F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E329C9-1766-4393-809F-648B4C76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00295-8DBF-4867-9146-19D0A4F8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C1D7F9-3D34-44E1-8222-9E78B2F3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B5A12-6AF2-4B80-BCBD-E42489ED2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626FF-0853-4221-816C-35C6F40D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C74D8-DBE1-4A87-B5EE-EACACAE1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8035-DEA2-4A2B-AE93-CED5E503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94A274-3CBB-4E01-A068-5DAF9646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03B043-1B13-448A-BE93-82EF5EB7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53DA24-041F-4624-949D-BCDCECCE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4A3120-2633-47A7-B175-B72608B0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E0AF4-AF81-48D2-A9A1-32CF4CAA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FD712-6139-4B9B-A5B6-6988F598C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8E9A50-4817-4C45-A377-FE4BB0E1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96DD6D-4B1E-43DE-8BCF-44D43B74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F2425B-515A-491A-8E07-8C2F4301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9476A-D483-47FA-B7E6-8B2A0442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EC58-9242-405F-A369-10DFB73A7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CAD9C-E6B5-4027-AC05-8C9CE47B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54DB1-64A8-45C7-A3A6-623EBAA2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865ED-36B6-4733-B6B0-8D7A83BA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B053E-F8DE-4EE7-9E4F-1D885895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B31D3-2C72-494B-BBA9-B8AF9252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6DA951-2FC9-41EF-AA81-F26D266A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3BF0C-C212-479E-AABB-EB4EEBE0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6C31C-0888-4D81-AF3B-86B89734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D60C6B-57BB-448A-8B90-EB03C666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CA2947-BB4A-4C22-9E63-F7D2EBB5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8DCF-3468-45E7-B2BB-6AEE4AD0F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6BDFAA-F174-463C-962A-237359D8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10CA72-2B12-4D1F-A181-7DC90BF1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1DCC01-5269-4958-B835-1378B869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FA2F6-3B1B-475A-909A-10205DC9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9281BB-4EDC-488C-9FB8-7CD7BD44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867768-5661-482A-B999-40F21244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4A07F-ABD8-4267-80A3-52DB20563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291E61-BE36-45E4-AADD-9D2B7D5C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90A47-990D-4C41-899F-A57942629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1E7185-9F14-4EA1-9098-C1DA9DF1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7A4F-F4AE-4DFA-9F8A-ADBB32DB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39BD8-4AAF-4D86-ABAF-7847EB410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47CB1-26C7-498E-A323-F52460A1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BDE2BB-CFDA-4BCE-8F65-762AA2DA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7D2138-7A66-4BC2-A609-71543C4B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E981B7-D457-4FDF-8E61-552832B2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049CA5-D0F8-4781-8F8C-920DF214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3DBCF-95B1-43D7-B31F-2BD1CDAC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3C4440-6737-40C8-8708-6F2427CB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B09DC-538B-486A-A031-F41D04F1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BD68DB-0D74-4F6F-BA5F-FE58399C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9A86-48E5-49B2-A0B8-9D6AF558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F08ACF-7DED-4D9C-86DB-2EB76DD3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6C001B-A7EE-49AE-9A49-26134529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84C5DA-13EE-4582-A991-22E400C5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9CA39-A270-4006-936E-1B49D40F1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50FFB2-7815-4537-BD0E-6EEF7DA9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321978-35DF-442A-8AFC-32203445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A23C4A-5494-4B9B-8DEF-6B3F656D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D9EE02-8965-440B-96C7-3663BB04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D0E525-75FE-4C21-B322-E42AFB4A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CA2518-952C-4DEE-A6E0-6598A33A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0E6-1511-47AD-99D5-059D3419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D352-4C11-4864-ABFB-E3A8A7FE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5A141-9994-4EC3-85B9-7B9878331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DBE8F6-F10C-4E96-A21F-C317F7B0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C6DC2D-189A-447D-8703-7BC70C3A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5080FF-62B0-4B16-A627-8919D011C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6F44F9-6BC3-4473-9828-BCD845BF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5C7A-2A77-4EBD-8685-0263E70D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71C1-DE4E-4BC8-A5BC-C7785B92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181D-A485-4181-9802-59C7CE307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5CB1-2B61-4D2E-8E2A-64D070F86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C239C-7D1F-4A77-BAEF-A4E419C62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EABEA-4B0F-43A6-922E-F8AE716B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1F6D0-6A60-46D9-96C7-7F1DFFBB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1EDC2-03A1-4D8F-B418-161418F4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505A6-B982-4944-9303-7F84950B4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81F-B0FD-47FB-8D63-D25F379E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9F42B-CBFF-43EB-AD55-4F169168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2085F-95FE-4C59-9657-EA21CF0C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D86F-CEB4-4E67-B5AB-F196D3EF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53A94-9894-4A14-B3C2-DADA6D42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44126-464F-406E-984A-E3BA98E0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E4C5-6056-4ED7-AD8F-66D1DC57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2688A-ED47-47C1-AB20-65AF45C9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65F2E-1AA8-4858-8312-88768F8AF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994DA-DDFA-4825-ACAF-23B4B1E61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A8D0D-60A2-46CA-B3EF-97E65F7C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D1FD-24D6-4387-9629-289EE749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19C88-E251-4350-B01A-8969D5CD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92F3B-B8DB-409E-8504-932F7F9A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37F05-FC0F-40D5-A49D-DB531100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948F5-8C07-4214-981D-AF26F934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9323D-B741-4BDB-BB8A-8DFC6996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0EB22-74BA-4CD6-80D9-6456C54C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B369C-FA02-4266-87A9-4D66905E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D09B7-5329-4F33-9C1B-4C9F3D62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FE4A4-FB8A-4038-AA7B-C87B7169E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90262-707B-42CE-A330-2E7F80D9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B45-02DB-491C-8056-1F33502B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91C56-4D5A-4A24-9B96-DA6F068A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A2460-8349-437C-990E-DAEA71EE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02634-639F-4ABC-8705-5FF992EA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5E18D-CAF8-4B42-9C3D-6424B40C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0F5FE-A78C-4826-B47C-1ADE63E2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B305A-CEC5-4E88-9AE6-7CA0363D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6064-A462-41A2-ADEC-5C76D0AF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49F86-5257-4073-A57C-30C0CE05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01CC6-A270-47A8-A1B9-AA83E23C3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CA078-1C02-40AE-9F64-9563566F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8EAB-CDFF-4142-B6F3-729C6333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E9C24-5483-4E69-B5E4-8A153F2A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3D9F6-272D-4FED-960E-1C2BBBAE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CE3BC-4A67-439A-B05C-F141AF77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71BD1-84A8-42A5-BC3A-7E94618F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A08DF-F65A-416D-AFB1-994603D1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E4653-DCEF-46B1-AB46-758AA919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DADF8-DFF4-40D3-B009-2EFE4B62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C6893-B35B-4AC3-B29E-7E63F498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0B764-A18F-4DE4-A437-EC548347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DC7C5-9245-464D-92B8-C7C9C64A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FF71-D9F4-423D-B637-3ED82A4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11737-9310-4AB5-B646-15AA0DDF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F0A44-23DC-48A4-8FDC-70EAE6B2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06669-8ECB-4D2B-BE5A-58AB50D5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237B0-85B8-4FA3-B2B9-6C008B1C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DADED-B8D8-42C9-99D1-85A2242E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D8BD1-6FF6-42F0-B638-45450DEB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C6F6B-8F7F-45DD-8B0B-22E9EFDE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3F0C8-E8D7-4B3A-900F-2AAA47C9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61952-9000-4575-B15B-F2FABAF1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D26C0-87E3-43A5-B21B-D13C7809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2B74-E8CC-4F77-A1DC-1F19E149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8D890-0BF6-495C-B1CE-3A991C30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04153-1928-4B7A-A94B-CC42A82E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6C42F-4B9B-4E59-85E9-464EEE76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C5F92-3639-4AB7-9784-BDA7EFCA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52967-D023-4B20-A44D-546793EA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38EDE-BCFD-4485-9ECD-F80DA17A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8184A-5D53-47BD-AA56-61E52646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81601-63BC-43C3-A7F4-D0BCB932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F3490-9EB8-42B6-9C2C-BE5D2DA0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33EF39-6FFB-4316-8BDE-96C02060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9DC5-4C70-40EC-AE60-0C3999C5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ED1C4-C2B0-46AE-B33E-FDD2BF07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F529B-E579-4A6B-A806-56309CB2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E1811-7312-4C2B-8316-04CAD127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454F0-3F56-422D-93EB-4F388336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5B692-50D8-4E6C-9BDC-793A953B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168B6-323B-4239-9FF9-0C1D4F3BC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FF361-4CD5-4034-9B4C-2A65E7E2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90637-F7F4-4FFE-BA7C-E19A6177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36391-7578-40EC-859C-E13B7B41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2409A0-63F5-4C11-9234-16611407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1F9A-B80B-4ACB-9FE2-40274AD8044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0599-D694-4339-ACB5-AFC45BA86AD0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DA36-ACE2-4DF8-9662-B8EB7C5E648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AF9B-3D14-419E-A95E-04DCD50FE557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F6B3-477B-4198-9E7D-2F5B9238EF9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1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C838-2421-4E49-9AF3-D26DD33D8B7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D19A-40D1-4FC6-9168-B543CDE430C9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E4DB-8988-4E39-86CC-D141423A8073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4A48-692F-4DF1-8707-1659A885C93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3498-0F63-4A28-AD86-A160361364C4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E782-87E1-4EB6-92CC-98D84AD4248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51054-1EF6-4DD8-948A-857087B5DFC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48D5-CC5A-45B0-8A79-A36BCF69204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CFF1-8C5C-4B87-A6A6-E4372A2008D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B9CF-74A0-41E4-9911-C1E430C7372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6B28-339E-4E6C-97B6-F149A86E37E0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0A4D-955E-46DD-B158-42574986BC9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ángulo 1"/>
          <p:cNvSpPr/>
          <p:nvPr/>
        </p:nvSpPr>
        <p:spPr>
          <a:xfrm>
            <a:off x="324000" y="1341360"/>
            <a:ext cx="84960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7200" spc="-1" strike="noStrike">
                <a:solidFill>
                  <a:srgbClr val="000000"/>
                </a:solidFill>
                <a:latin typeface="Century Gothic"/>
              </a:rPr>
              <a:t>LA MÁS URGENTE </a:t>
            </a:r>
            <a:r>
              <a:rPr b="1" lang="es-VE" sz="9600" spc="-1" strike="noStrike">
                <a:solidFill>
                  <a:srgbClr val="000000"/>
                </a:solidFill>
                <a:latin typeface="Baskerville Old Face"/>
              </a:rPr>
              <a:t>NECESIDAD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8800" spc="-1" strike="noStrike">
                <a:solidFill>
                  <a:srgbClr val="000000"/>
                </a:solidFill>
                <a:latin typeface="Century Gothic"/>
              </a:rPr>
              <a:t>DEL HOMBRE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611280" y="191628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El propósito del tentador era contraria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EL PLAN DE DI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ángulo 1"/>
          <p:cNvSpPr/>
          <p:nvPr/>
        </p:nvSpPr>
        <p:spPr>
          <a:xfrm>
            <a:off x="324000" y="1773360"/>
            <a:ext cx="8640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¿no son éstos incentivos  poderoso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que nos instan a dedicar a nuestro Salvador el amante servicio de nuestro corazón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ángulo 1"/>
          <p:cNvSpPr/>
          <p:nvPr/>
        </p:nvSpPr>
        <p:spPr>
          <a:xfrm>
            <a:off x="324000" y="19954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Y por otra parte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os juicios de Dios pronunciados contra el pecad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ángulo 1"/>
          <p:cNvSpPr/>
          <p:nvPr/>
        </p:nvSpPr>
        <p:spPr>
          <a:xfrm>
            <a:off x="395280" y="1995480"/>
            <a:ext cx="835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retribución inevitable, la degradación de nuestro caráct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ángulo 1"/>
          <p:cNvSpPr/>
          <p:nvPr/>
        </p:nvSpPr>
        <p:spPr>
          <a:xfrm>
            <a:off x="826920" y="1779480"/>
            <a:ext cx="7417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la destrucción final, se presentan e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Palabra de D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ángulo 1"/>
          <p:cNvSpPr/>
          <p:nvPr/>
        </p:nvSpPr>
        <p:spPr>
          <a:xfrm>
            <a:off x="395280" y="246708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amonestarnos contra el servicio de Satanás.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ángulo 1"/>
          <p:cNvSpPr/>
          <p:nvPr/>
        </p:nvSpPr>
        <p:spPr>
          <a:xfrm>
            <a:off x="250920" y="2209680"/>
            <a:ext cx="86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¿No apreciaremos la misericordia de Dios?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ángulo 1"/>
          <p:cNvSpPr/>
          <p:nvPr/>
        </p:nvSpPr>
        <p:spPr>
          <a:xfrm>
            <a:off x="755640" y="255744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¿Qué más podía hacer?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ángulo 1"/>
          <p:cNvSpPr/>
          <p:nvPr/>
        </p:nvSpPr>
        <p:spPr>
          <a:xfrm>
            <a:off x="395280" y="1933560"/>
            <a:ext cx="8280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ongámonos en perfecta relació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on Aquel que nos ha amado con estupendo amo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ángulo 1"/>
          <p:cNvSpPr/>
          <p:nvPr/>
        </p:nvSpPr>
        <p:spPr>
          <a:xfrm>
            <a:off x="395280" y="1873080"/>
            <a:ext cx="83883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provechemos los medios que nos han sido provisto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ara que seamos transformados conforme a su semejanz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ángulo 1"/>
          <p:cNvSpPr/>
          <p:nvPr/>
        </p:nvSpPr>
        <p:spPr>
          <a:xfrm>
            <a:off x="611280" y="170028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restituidos a la comunión de los ángeles, a la armonía y comunión del Padre y el Hijo.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395280" y="1965240"/>
            <a:ext cx="84978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400" spc="-1" strike="noStrike">
                <a:solidFill>
                  <a:srgbClr val="000000"/>
                </a:solidFill>
                <a:latin typeface="Calibri"/>
              </a:rPr>
              <a:t>Que había tenido al crear al homb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y llenar la tierra de miseria y desolació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179280" y="155736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5400" spc="-1" strike="noStrike">
                <a:solidFill>
                  <a:srgbClr val="000000"/>
                </a:solidFill>
                <a:latin typeface="Calibri"/>
              </a:rPr>
              <a:t>Quería señalar todo este mal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como el resultado de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la obra de Dio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al crear al hombre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250920" y="1700280"/>
            <a:ext cx="87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El hombre, en su estado de inocencia, gozaba de completa comunión con Di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324000" y="1844640"/>
            <a:ext cx="8424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4400" spc="-1" strike="noStrike">
                <a:solidFill>
                  <a:srgbClr val="000000"/>
                </a:solidFill>
                <a:latin typeface="Calibri"/>
              </a:rPr>
              <a:t>Aquel “en quien están escondidos todos los tesoros de la sabiduría y de la ciencia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(Colosenses 2: 3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468360" y="17002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Mas después de su caída, no pudo encontrar gozo en la santida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1"/>
          <p:cNvSpPr/>
          <p:nvPr/>
        </p:nvSpPr>
        <p:spPr>
          <a:xfrm>
            <a:off x="684360" y="1873080"/>
            <a:ext cx="7848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Y procuró ocultarse de la presencia de Dio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539640" y="1844640"/>
            <a:ext cx="8064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Tal es aún la condición del corazón no renovado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ángulo 1"/>
          <p:cNvSpPr/>
          <p:nvPr/>
        </p:nvSpPr>
        <p:spPr>
          <a:xfrm>
            <a:off x="250920" y="1916280"/>
            <a:ext cx="860580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Que no está en armonía con Dios,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i encuentra gozo en la comunión con él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324000" y="206064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pecador no podría ser feliz en la presencia de Di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ángulo 1"/>
          <p:cNvSpPr/>
          <p:nvPr/>
        </p:nvSpPr>
        <p:spPr>
          <a:xfrm>
            <a:off x="250920" y="1197000"/>
            <a:ext cx="85690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El hombre estaba dotado originalmente de facultades nobles y de un entendimiento bien equilibrad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539640" y="206064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e desagradaría  la compañía de los seres sant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ángulo 1"/>
          <p:cNvSpPr/>
          <p:nvPr/>
        </p:nvSpPr>
        <p:spPr>
          <a:xfrm>
            <a:off x="324000" y="1944720"/>
            <a:ext cx="85690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Si se le pudiese permitir entrar en el cielo,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hallaría alegría en aquel luga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179280" y="2097000"/>
            <a:ext cx="885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espíritu de amo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puro reina allí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395280" y="18446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onde respond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ada corazón al corazó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l Amor Infinit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250920" y="19350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haría vibrar en su alm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uerda alguna d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impatí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108000" y="215100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ría una not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iscordante en la melodía del ciel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179280" y="2170080"/>
            <a:ext cx="8640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cielo sería para él un lugar de tortura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324000" y="1916280"/>
            <a:ext cx="83516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nsiaría ocultarse de la presencia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Aquel que es su luz y el centro de su goz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179280" y="1700280"/>
            <a:ext cx="87138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No es un decreto arbitrari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e parte de D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que excluye del ciel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 los malvad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179280" y="141300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los mismos se han cerrado las puerta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 su propia ineptitud </a:t>
            </a: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para aquella compañí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ángulo 1"/>
          <p:cNvSpPr/>
          <p:nvPr/>
        </p:nvSpPr>
        <p:spPr>
          <a:xfrm>
            <a:off x="324000" y="1628640"/>
            <a:ext cx="849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Era perfecto y estaba en armonía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con Dio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ángulo 1"/>
          <p:cNvSpPr/>
          <p:nvPr/>
        </p:nvSpPr>
        <p:spPr>
          <a:xfrm>
            <a:off x="250920" y="1989000"/>
            <a:ext cx="8642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gloria de Di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ría para ellos un fuego consumido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324000" y="162864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searían ser destruidos </a:t>
            </a: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para esconderse del rostro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Aquel qu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murió por salvarl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324000" y="1844640"/>
            <a:ext cx="84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s imposible que escapemos por nosotros mism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el abismo del pecado en que estamos sumid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468360" y="213840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uestro corazón es malo y no lo podemos cambia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1"/>
          <p:cNvSpPr/>
          <p:nvPr/>
        </p:nvSpPr>
        <p:spPr>
          <a:xfrm>
            <a:off x="324000" y="1844640"/>
            <a:ext cx="871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¿Quién podrá sacar cosa limpia de inmunda? Ninguno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Job 14: 4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1"/>
          <p:cNvSpPr/>
          <p:nvPr/>
        </p:nvSpPr>
        <p:spPr>
          <a:xfrm>
            <a:off x="71280" y="1628640"/>
            <a:ext cx="9037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 cuanto el ánimo carnal es enemistad contra Dios; pues no está sujeto a la ley de Dios, ni a la verdad lo puede estar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Romanos 8: 7)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250920" y="1700280"/>
            <a:ext cx="8785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 educación, la cultura, el ejercicio de la voluntad, el esfuerzo human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dos tienen su propia esfera, pero no tienen ningún pod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0" y="1700280"/>
            <a:ext cx="91440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Pueden producir un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orrección externa de la conducta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 no puede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ambiar el corazó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1"/>
          <p:cNvSpPr/>
          <p:nvPr/>
        </p:nvSpPr>
        <p:spPr>
          <a:xfrm>
            <a:off x="395280" y="199404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No pueden purificar las fuentes de la vida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1"/>
          <p:cNvSpPr/>
          <p:nvPr/>
        </p:nvSpPr>
        <p:spPr>
          <a:xfrm>
            <a:off x="539640" y="1557360"/>
            <a:ext cx="813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Debe habe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un poder que obre en el interior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ángulo 1"/>
          <p:cNvSpPr/>
          <p:nvPr/>
        </p:nvSpPr>
        <p:spPr>
          <a:xfrm>
            <a:off x="539640" y="1557360"/>
            <a:ext cx="813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Sus pensamientos eran puros,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sus designios santo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-36360" y="1792440"/>
            <a:ext cx="914400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Una vida nueva de lo alto, </a:t>
            </a: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antes de que el hombr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pueda convertirs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el pecado a la santida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900000" y="1893960"/>
            <a:ext cx="720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000000"/>
                </a:solidFill>
                <a:latin typeface="Calibri"/>
              </a:rPr>
              <a:t>¡Ese poder es Cristo!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108000" y="1935000"/>
            <a:ext cx="889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olamente su gracia puede vivificar las facultades muertas del alm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755640" y="2241720"/>
            <a:ext cx="741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Y atraerlas a Dios,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a la santidad 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ángulo 1"/>
          <p:cNvSpPr/>
          <p:nvPr/>
        </p:nvSpPr>
        <p:spPr>
          <a:xfrm>
            <a:off x="34920" y="1646280"/>
            <a:ext cx="903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Salvador dijo: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 menos que el hombre naciere de nuevo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250920" y="134136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 menos que recib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un corazón nuevo, nuevos deseos y design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que lo guíen a una nueva vid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1"/>
          <p:cNvSpPr/>
          <p:nvPr/>
        </p:nvSpPr>
        <p:spPr>
          <a:xfrm>
            <a:off x="684360" y="1903320"/>
            <a:ext cx="7848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puede ver el reino de Dios"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San Juan 3: 3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108000" y="1773360"/>
            <a:ext cx="878508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No te maravilles de que te dije: os es necesario nacer de nuevo" 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San Juan 3: 7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250920" y="1425600"/>
            <a:ext cx="856908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Cristo está escrito: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En él estaba la vida; y la vida era la luz de los hombres"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San Juan 1: 4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0" y="849240"/>
            <a:ext cx="912960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único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nombre debajo del cielo dado a los hombres, en el cual podamos ser salvos"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Hechos 4: 12)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ángulo 1"/>
          <p:cNvSpPr/>
          <p:nvPr/>
        </p:nvSpPr>
        <p:spPr>
          <a:xfrm>
            <a:off x="179280" y="1587600"/>
            <a:ext cx="896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Pero por la desobediencia,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sus facultades se pervirtieron y el egoísmo sustituyó al amo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684360" y="184464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basta comprender la bondad amorosa de Dio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179280" y="1916280"/>
            <a:ext cx="878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i percibir la benevolenci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ternura paternal de su carácte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250920" y="184464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basta discernir la sabiduría y justici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su le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324000" y="191628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Ver que está fundada sobre el eterno principio del Amo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144360" y="1454040"/>
            <a:ext cx="89647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l apóstol Pablo veía todo esto cuando exclamó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Consiento en que la ley es buena, la ley es santa, y el mandamiento justo y bueno"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1"/>
          <p:cNvSpPr/>
          <p:nvPr/>
        </p:nvSpPr>
        <p:spPr>
          <a:xfrm>
            <a:off x="250920" y="1527120"/>
            <a:ext cx="8893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Mas él añadió en la amargura de su alma agonizante y desesperada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Soy carnal, vendido bajo el poder del pecado"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Romanos 7: 12, 14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539640" y="155736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nsiaba la pureza,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justici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que no podía alcanza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 sí mism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324000" y="1125360"/>
            <a:ext cx="856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y dijo: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Oh hombre infeliz que soy! ¿quién me libertará de este cuerpo de muerte?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Romanos 7: 24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0" y="1557360"/>
            <a:ext cx="912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misma exclamació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 subido en todas part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en todo tiempo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 corazones sobrecargad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108000" y="1268280"/>
            <a:ext cx="8964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No hay más que una contestación para todos: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He aquí el Cordero de Dios, que quita el pecado del mundo!”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Juan 1: 29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ángulo 1"/>
          <p:cNvSpPr/>
          <p:nvPr/>
        </p:nvSpPr>
        <p:spPr>
          <a:xfrm>
            <a:off x="179280" y="193500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Su naturalez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se hizo muy débil por la transgresió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108000" y="1700280"/>
            <a:ext cx="894852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Muchas son las figuras por las qu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Espíritu de D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 procurado ilustrar esta verdad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395280" y="220500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cerla clara a las almas que desean verse libres de la carga del pecad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179280" y="1544760"/>
            <a:ext cx="88567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uando Jacob pecó, engañando a Esaú, y huyó de la casa de su padre,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staba abrumado por el conocimiento de su culpa.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179280" y="1700280"/>
            <a:ext cx="878544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Solo y abandonado como estaba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parado de todo lo que le hacía preciosa la vid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108000" y="1827360"/>
            <a:ext cx="8928000" cy="31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900" spc="-1" strike="noStrike">
                <a:solidFill>
                  <a:srgbClr val="000000"/>
                </a:solidFill>
                <a:latin typeface="Calibri"/>
              </a:rPr>
              <a:t>El único pensamiento que oprimía su alma,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ra el temor de qu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 pecado lo hubies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partado de D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395280" y="213372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¡Que fuese abandonado del cielo!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324000" y="1595520"/>
            <a:ext cx="849600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En medio de su tristeza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e recostó para descansa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obre la tierra desnuda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179280" y="1668600"/>
            <a:ext cx="882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o rodeaban solamente las solitarias montañas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lo cubría la bóveda celeste con su manto de estrellas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179280" y="1773360"/>
            <a:ext cx="86774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Habiéndose dormido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una luz extraordinaria se le apareció en su sueñ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1"/>
          <p:cNvSpPr/>
          <p:nvPr/>
        </p:nvSpPr>
        <p:spPr>
          <a:xfrm>
            <a:off x="108000" y="1677960"/>
            <a:ext cx="896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Y he aquí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donde estaba recostado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una inmensa escalera simbólic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arecía conducir a lo alto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2"/>
          <p:cNvSpPr/>
          <p:nvPr/>
        </p:nvSpPr>
        <p:spPr>
          <a:xfrm>
            <a:off x="395280" y="193500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Le fue imposibl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000" spc="-1" strike="noStrike">
                <a:solidFill>
                  <a:srgbClr val="000000"/>
                </a:solidFill>
                <a:latin typeface="Calibri"/>
              </a:rPr>
              <a:t>por su propia fuerza resistir el poder del mal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250920" y="152568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sta las misma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uertas del cielo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y los ángeles de Dios subían y descendían por ell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270000" y="1413000"/>
            <a:ext cx="862308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Al paso que de la gloria de las alturas se oyó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voz divina que pronunciaba un mensaje de CONSUELO Y ESPERANZ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324000" y="1822320"/>
            <a:ext cx="849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sí hizo Dios conocer a Jacob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aquello que satisfacía la necesidad y el ansia de su alma: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UN SALVADO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250920" y="1587600"/>
            <a:ext cx="87138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on gozo y gratitud vio revelado un camino por el cua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él, como pecador,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odía ser restaurado a la comunión con Di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144360" y="1711440"/>
            <a:ext cx="8891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La mística escalera de su sueño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representaba a Jesú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l único medio de comunicación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entre Dios y el hombr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250920" y="1125360"/>
            <a:ext cx="88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sta es la misma figur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 la cual Cristo se refirió en su conversación con Natanael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ángulo 1"/>
          <p:cNvSpPr/>
          <p:nvPr/>
        </p:nvSpPr>
        <p:spPr>
          <a:xfrm>
            <a:off x="108000" y="942840"/>
            <a:ext cx="889164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cuando dijo: 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Veréis abierto el cielo, y a los ángeles de Dios subiendo y bajando sobre el Hijo del hombre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Juan 1: 51)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ángulo 1"/>
          <p:cNvSpPr/>
          <p:nvPr/>
        </p:nvSpPr>
        <p:spPr>
          <a:xfrm>
            <a:off x="250920" y="1989000"/>
            <a:ext cx="86421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Al caer, el hombre se apartó de Dios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tierra fue cortada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l ciel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ángulo 1"/>
          <p:cNvSpPr/>
          <p:nvPr/>
        </p:nvSpPr>
        <p:spPr>
          <a:xfrm>
            <a:off x="468360" y="1820880"/>
            <a:ext cx="806436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A través del abismo existente entre amb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podía haber comunió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ángulo 1"/>
          <p:cNvSpPr/>
          <p:nvPr/>
        </p:nvSpPr>
        <p:spPr>
          <a:xfrm>
            <a:off x="611280" y="1989000"/>
            <a:ext cx="81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Mas mediante Cristo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mundo está unido otra vez con el ciel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324000" y="2276640"/>
            <a:ext cx="84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6600" spc="-1" strike="noStrike">
                <a:solidFill>
                  <a:srgbClr val="000000"/>
                </a:solidFill>
                <a:latin typeface="Calibri"/>
              </a:rPr>
              <a:t>Fue hecho cautivo por Satanás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ángulo 1"/>
          <p:cNvSpPr/>
          <p:nvPr/>
        </p:nvSpPr>
        <p:spPr>
          <a:xfrm>
            <a:off x="395280" y="184464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Con sus propios méritos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isto ha salvado el abismo que el pecado había hech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ángulo 1"/>
          <p:cNvSpPr/>
          <p:nvPr/>
        </p:nvSpPr>
        <p:spPr>
          <a:xfrm>
            <a:off x="108000" y="1773360"/>
            <a:ext cx="889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e tal manera que los hombr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ueden tener comunión con los ángeles ministradores.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ángulo 1"/>
          <p:cNvSpPr/>
          <p:nvPr/>
        </p:nvSpPr>
        <p:spPr>
          <a:xfrm>
            <a:off x="179280" y="151596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Cristo une al hombre caído, débil y miserable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n la Fuente del poder Infinit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ángulo 1"/>
          <p:cNvSpPr/>
          <p:nvPr/>
        </p:nvSpPr>
        <p:spPr>
          <a:xfrm>
            <a:off x="539640" y="191628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Mas vanos son los sueños de progreso de los hombr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ángulo 1"/>
          <p:cNvSpPr/>
          <p:nvPr/>
        </p:nvSpPr>
        <p:spPr>
          <a:xfrm>
            <a:off x="468360" y="170028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vanos todos sus esfuerzos por elevar a la humanidad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ángulo 1"/>
          <p:cNvSpPr/>
          <p:nvPr/>
        </p:nvSpPr>
        <p:spPr>
          <a:xfrm>
            <a:off x="179280" y="170028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i menosprecian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única fuente de esperanza y amparo para la raza caída  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ángulo 1"/>
          <p:cNvSpPr/>
          <p:nvPr/>
        </p:nvSpPr>
        <p:spPr>
          <a:xfrm>
            <a:off x="826920" y="1658880"/>
            <a:ext cx="74901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Toda dádiva buena y todo don perfecto es de Dios“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Santiago 1: 17)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ángulo 1"/>
          <p:cNvSpPr/>
          <p:nvPr/>
        </p:nvSpPr>
        <p:spPr>
          <a:xfrm>
            <a:off x="324000" y="1689120"/>
            <a:ext cx="864072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o soy el Camino, y la Verdad, y la Vida; nadie viene al Padre sino por mí”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Juan 14: 6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ángulo 1"/>
          <p:cNvSpPr/>
          <p:nvPr/>
        </p:nvSpPr>
        <p:spPr>
          <a:xfrm>
            <a:off x="250920" y="145260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corazón de Dio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uspira por sus hijos terrenales con un amor más fuerte que la muert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ángulo 1"/>
          <p:cNvSpPr/>
          <p:nvPr/>
        </p:nvSpPr>
        <p:spPr>
          <a:xfrm>
            <a:off x="214200" y="1790640"/>
            <a:ext cx="82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l dar a su Hijo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s ha vertido todo el cielo en un do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324000" y="1700280"/>
            <a:ext cx="860400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000" spc="-1" strike="noStrike">
                <a:solidFill>
                  <a:srgbClr val="000000"/>
                </a:solidFill>
                <a:latin typeface="Calibri"/>
              </a:rPr>
              <a:t>Y hubiera permanecido así para siemp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5400" spc="-1" strike="noStrike">
                <a:solidFill>
                  <a:srgbClr val="000000"/>
                </a:solidFill>
                <a:latin typeface="Calibri"/>
              </a:rPr>
              <a:t>si Dios no hubiese intervenido de una manera especial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ángulo 1"/>
          <p:cNvSpPr/>
          <p:nvPr/>
        </p:nvSpPr>
        <p:spPr>
          <a:xfrm>
            <a:off x="611280" y="1922400"/>
            <a:ext cx="792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vida, la muerte y la intercesión del Salvado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ángulo 1"/>
          <p:cNvSpPr/>
          <p:nvPr/>
        </p:nvSpPr>
        <p:spPr>
          <a:xfrm>
            <a:off x="468360" y="155736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ministerio de los ángeles, la imploración del Espíritu Santo, el Padre que obra  sobre todo y por tod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ángulo 1"/>
          <p:cNvSpPr/>
          <p:nvPr/>
        </p:nvSpPr>
        <p:spPr>
          <a:xfrm>
            <a:off x="755640" y="17780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interés incesant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los seres celestiale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ángulo 1"/>
          <p:cNvSpPr/>
          <p:nvPr/>
        </p:nvSpPr>
        <p:spPr>
          <a:xfrm>
            <a:off x="324000" y="198900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Todos están empeñados en la redención del hombre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ángulo 1"/>
          <p:cNvSpPr/>
          <p:nvPr/>
        </p:nvSpPr>
        <p:spPr>
          <a:xfrm>
            <a:off x="250920" y="1587600"/>
            <a:ext cx="86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Oh, contemplemos el sacrificio asombroso que ha sido hecho por nosotros! 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ángulo 1"/>
          <p:cNvSpPr/>
          <p:nvPr/>
        </p:nvSpPr>
        <p:spPr>
          <a:xfrm>
            <a:off x="179280" y="1544760"/>
            <a:ext cx="87138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rocuremos apreciar el trabajo y la energía que el cielo está empleand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rescatar al perdido y traerlo de nuevo al Padr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ángulo 1"/>
          <p:cNvSpPr/>
          <p:nvPr/>
        </p:nvSpPr>
        <p:spPr>
          <a:xfrm>
            <a:off x="179280" y="1700280"/>
            <a:ext cx="86407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Jamás podrían habers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puesto en acció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otivos más fuertes y energías más poderosa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ángulo 1"/>
          <p:cNvSpPr/>
          <p:nvPr/>
        </p:nvSpPr>
        <p:spPr>
          <a:xfrm>
            <a:off x="395280" y="2138400"/>
            <a:ext cx="84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s grandiosos galardones por el bien hacer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ángulo 1"/>
          <p:cNvSpPr/>
          <p:nvPr/>
        </p:nvSpPr>
        <p:spPr>
          <a:xfrm>
            <a:off x="324000" y="170028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goce del cielo,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compañía de los ángeles, la comunión y el amor de Dios y de su Hijo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ángulo 1"/>
          <p:cNvSpPr/>
          <p:nvPr/>
        </p:nvSpPr>
        <p:spPr>
          <a:xfrm>
            <a:off x="179280" y="1628640"/>
            <a:ext cx="8856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La elevación y el acrecentamiento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todas nuestras facultades por las edades eterna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7:55:42Z</dcterms:created>
  <dc:creator>Orlando Rosales</dc:creator>
  <dc:description/>
  <dc:language>en-US</dc:language>
  <cp:lastModifiedBy>Karina de Martin</cp:lastModifiedBy>
  <dcterms:modified xsi:type="dcterms:W3CDTF">2017-03-12T15:41:45Z</dcterms:modified>
  <cp:revision>41</cp:revision>
  <dc:subject/>
  <dc:title>CAPÍTULO 2. La Más Urgente Necesidad del Hombre </dc:title>
</cp:coreProperties>
</file>